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DD0D-47F1-40B5-8E53-59177E70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9A8B-30DE-4AA2-801F-D559BB46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E362-52CE-45F0-80D9-C8D1342B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9E93-9E3D-4F92-B20D-97985FBD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67E-83E0-451B-AB2D-18AA3E05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5DEB-5CF3-40C5-936B-3F8DDB16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F7E5-A1B1-45D3-8F72-0B2AAEDF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9A0-C231-4331-B952-4A6E6075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385A-0D4C-4C58-B370-6832BCF7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A908-9923-4DA6-BF66-4EEACFD7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65C9-55CF-4048-952D-767A5596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E78-D5F7-4B52-B032-850E1568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2992-409E-4EBA-942B-DCDE046E9EC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STUDIO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2362320" cy="2590920"/>
          </a:xfrm>
          <a:prstGeom prst="wedgeEllipseCallout">
            <a:avLst>
              <a:gd name="adj1" fmla="val 96842"/>
              <a:gd name="adj2" fmla="val -29046"/>
            </a:avLst>
          </a:prstGeom>
          <a:gradFill rotWithShape="0">
            <a:gsLst>
              <a:gs pos="0">
                <a:srgbClr val="00cc99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2767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2133720"/>
            <a:ext cx="3962160" cy="45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RATIFICAR LA EXISTENCIA EN EL MERCADO DE UNA NECESIDAD INSATISFECH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DETERMINAR LA CANTIDAD DE BIENES O SERVICIOS QUE LA COMUNIDAD ESTARÍA DISPUESTA A ADQUIRIR A DETERMINADOS PREC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CONOCER CUÁLES SON LOS MEDIOS QUE SE EMPLE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DAR UNA IDEA  AL INVERSIONISTA DEL RIESGO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2743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18288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ANÁLISIS DE LA DEMANDA</a:t>
            </a:r>
            <a:br>
              <a:rPr sz="4000"/>
            </a:b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CANTIDAD DE BIENES Y SERVICIOS QUE EL MERCADO REQUIERE O SOLICITA PARA BUSCAR LA SATISFACCIÓN </a:t>
            </a:r>
            <a:br>
              <a:rPr sz="2000"/>
            </a:b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DE UNA NECESIDAD ESPECÍFICA A UN PRECIO  DETERM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6668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T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3048120"/>
            <a:ext cx="2438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2971800"/>
            <a:ext cx="44956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1.EN RELACIÓN A LA OPORTUNIDAD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3124080"/>
            <a:ext cx="2590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3657600"/>
            <a:ext cx="4572000" cy="533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2. EN RELACIÓN CON LA NECESIDAD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200400"/>
            <a:ext cx="30481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4419720"/>
            <a:ext cx="4419720" cy="5331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EN RELACIÓN CON SU TEMPOR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3200400"/>
            <a:ext cx="3581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5105520"/>
            <a:ext cx="4267080" cy="4572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4.  EN RELACIÓN A SU </a:t>
            </a: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DEST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4019400"/>
            <a:ext cx="29718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685800"/>
            <a:ext cx="7848360" cy="15058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2f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Papyrus"/>
              </a:rPr>
              <a:t>ESTUDIO TÉCN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Papyrus"/>
              </a:rPr>
              <a:t>PROCESO PRODU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3276720"/>
          <a:ext cx="7924680" cy="2081160"/>
        </p:xfrm>
        <a:graphic>
          <a:graphicData uri="http://schemas.openxmlformats.org/drawingml/2006/table">
            <a:tbl>
              <a:tblPr/>
              <a:tblGrid>
                <a:gridCol w="2641320"/>
                <a:gridCol w="2719440"/>
                <a:gridCol w="2563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CE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I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2f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+ PROCESO TRANSFORM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=PROCE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5400000"/>
                    </a:gradFill>
                  </a:tcPr>
                </a:tc>
              </a:tr>
              <a:tr h="13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SU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Gill Sans M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UMINIS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Gill Sans M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C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Gill Sans M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Gill Sans M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RGANIZ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Gill Sans M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ODU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Gill Sans M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UBPRODU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Gill Sans MT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SIDUOS O DESHECH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1:01:56Z</dcterms:created>
  <dc:creator>pc</dc:creator>
  <dc:description/>
  <dc:language>en-US</dc:language>
  <cp:lastModifiedBy>Administrador</cp:lastModifiedBy>
  <dcterms:modified xsi:type="dcterms:W3CDTF">2005-12-12T11:41:18Z</dcterms:modified>
  <cp:revision>8</cp:revision>
  <dc:subject/>
  <dc:title>ESTUDIO DE MERCADO</dc:title>
</cp:coreProperties>
</file>